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voltage.wav" ContentType="audio/x-wav"/>
  <Override PartName="/ppt/media/coin.wav" ContentType="audio/x-wav"/>
  <Override PartName="/ppt/media/bomb.wav" ContentType="audio/x-wav"/>
  <Override PartName="/ppt/media/camera.wav" ContentType="audio/x-wav"/>
  <Override PartName="/ppt/media/wind.wav" ContentType="audio/x-wav"/>
  <Override PartName="/ppt/media/image2.jpeg" ContentType="image/jpeg"/>
  <Override PartName="/ppt/media/image3.png" ContentType="image/png"/>
  <Override PartName="/ppt/media/breeze.wav" ContentType="audio/x-wav"/>
  <Override PartName="/ppt/media/image4.jpeg" ContentType="image/jpeg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64A0-D420-4092-92E9-7FA00319F0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CB79-ABC4-4020-BF17-9DBEE313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C7AC-E81A-41DA-B079-6574CD2D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8779-3CC0-4650-BE10-84F56A60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1995-42AE-4EA8-86CB-B4EE6B7F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235E-C54E-4443-A8C3-1CBB2882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7AE3-E109-4708-B10A-B405FD57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7FD6-CB48-4E30-A4BF-E04F7B73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2E46-5920-41A6-83D3-B809C5D1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86B7-DC20-49B8-84FE-3F031A24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B1F3-B398-4498-8E7F-ABDF5D96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DB40-2CB7-4CFE-A912-F1EDC9FF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BB21-2E8D-4993-B34C-6D08A33A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1E40-8AB0-4154-A301-7D625CB0B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psites.net/gotham01/webpages/isaacs/Immigrants%2520seeing%2520Statue.jpg&amp;imgrefurl=http://www.mapsites.net/gotham01/webpages/isaacs/index.htm&amp;h=514&amp;w=640&amp;sz=86&amp;hl=en&amp;start=5&amp;tbnid=-hGJN2xi_QjhTM:&amp;tbnh=110&amp;tbnw=137&amp;prev=/images%3Fq%3Dimmigrants%26svnum%3D10%26hl%3Den%26lr%3D%26sa%3DG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1960" y="91440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Berlin Sans FB Demi"/>
              </a:rPr>
              <a:t>Immigrants in Amer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Berlin Sans FB"/>
              </a:rPr>
              <a:t>Millions of immigrants moved to the United States in the late 1800’s &amp; early 190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Immigrants%2520seeing%2520Statu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762120"/>
            <a:ext cx="2209680" cy="23922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  <p:sndAc>
      <p:stSnd>
        <p:snd r:embed="rId3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Berlin Sans FB Demi"/>
              </a:rPr>
              <a:t>Immigration S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Berlin Sans FB Demi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1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228600"/>
          <a:ext cx="9144000" cy="62946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71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33"/>
                          </a:solidFill>
                          <a:latin typeface="Berlin Sans FB Demi"/>
                        </a:rPr>
                        <a:t>New immigrants arriving at Ellis Island. At Ellis they will be "processed" before they are allowed to continue their journey to find a new hom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Picture 5" descr="Photo of immigrants arriving at Ellis Island"/>
          <p:cNvPicPr/>
          <p:nvPr/>
        </p:nvPicPr>
        <p:blipFill>
          <a:blip r:embed="rId1"/>
          <a:stretch/>
        </p:blipFill>
        <p:spPr>
          <a:xfrm>
            <a:off x="1981080" y="685800"/>
            <a:ext cx="476280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breez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growthcenters-big"/>
          <p:cNvPicPr/>
          <p:nvPr/>
        </p:nvPicPr>
        <p:blipFill>
          <a:blip r:embed="rId1"/>
          <a:stretch/>
        </p:blipFill>
        <p:spPr>
          <a:xfrm>
            <a:off x="914400" y="781200"/>
            <a:ext cx="7848720" cy="56829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erlin Sans FB Demi"/>
              </a:rPr>
              <a:t>Laws Against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882 Congress passed Chinese Exclusion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most all Chinese immigrants were kept out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921 &amp; 1924 Congress passed laws that lowered  the number of Europeans &amp; As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l immigrants faced prejudice upon arr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Berlin Sans FB Demi"/>
              </a:rPr>
              <a:t>Immigrants helped the U.S. become one of the richest and fastest-growing countries in the world.  They built railroads, dug mines, and worked in facto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day_without_immigrants"/>
          <p:cNvPicPr/>
          <p:nvPr/>
        </p:nvPicPr>
        <p:blipFill>
          <a:blip r:embed="rId1"/>
          <a:stretch/>
        </p:blipFill>
        <p:spPr>
          <a:xfrm>
            <a:off x="2666880" y="3124080"/>
            <a:ext cx="3581640" cy="34750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coi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im2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5627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6:16:47Z</dcterms:created>
  <dc:creator>Your User Name</dc:creator>
  <dc:description/>
  <dc:language>en-US</dc:language>
  <cp:lastModifiedBy>LEGION</cp:lastModifiedBy>
  <dcterms:modified xsi:type="dcterms:W3CDTF">2017-07-03T11:22:33Z</dcterms:modified>
  <cp:revision>8</cp:revision>
  <dc:subject/>
  <dc:title>Immigrants in America</dc:title>
</cp:coreProperties>
</file>